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7D2-BC0B-4BBB-A5EF-01C0AC44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308-E33B-4AC9-B583-B2C6F84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988-4995-4389-9EC6-C7057D01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83E-2407-4979-9B2D-E1942B6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159-9CBE-46C5-BAFF-8845556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756-9400-4595-95F1-63AB4AB3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EB6-3218-4261-B474-9862D0A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C44-85EB-42FE-83B9-09CC5104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5A8-084C-4650-A227-C83E08B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6E0-AF07-49D0-8A66-0F68BCA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91A-CF4E-4F77-BA1B-4A4BE3F2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B38-FA1A-41C2-BA97-145DDCB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17A1-6CC8-43D7-8D88-42313BA37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yoramha@mandelinstitute.org.il" TargetMode="External"/><Relationship Id="rId2" Type="http://schemas.openxmlformats.org/officeDocument/2006/relationships/hyperlink" Target="mailto:adaml@netvision.net.i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68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ching and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ning in a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ommunity of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inking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– challenges and dilem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432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ram Harpa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dam Lef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us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of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62200"/>
            <a:ext cx="78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ducational practice 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ternative “atomic pictur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5800" y="3578400"/>
            <a:ext cx="511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component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quiry /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114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125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dd61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130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140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1120" y="2540160"/>
            <a:ext cx="2413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287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8400" y="1700280"/>
            <a:ext cx="1297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00" y="68904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rtile Ques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2244600"/>
            <a:ext cx="604980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ich is preferable, to be a house-pet or a wild animal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non-disciplin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y do people marry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sociolog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oes competition make us better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interdisciplin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9320" y="3378240"/>
            <a:ext cx="2055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29880" y="4218120"/>
            <a:ext cx="835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720" y="5056200"/>
            <a:ext cx="1648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760" y="5894280"/>
            <a:ext cx="1694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1120" y="2540160"/>
            <a:ext cx="2413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51480" y="287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954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8400" y="1700280"/>
            <a:ext cx="129708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9320" y="3378240"/>
            <a:ext cx="20552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9880" y="4218120"/>
            <a:ext cx="8359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720" y="5056200"/>
            <a:ext cx="16484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760" y="5894280"/>
            <a:ext cx="1694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00" y="68904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rtile Question 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2349360"/>
            <a:ext cx="59770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y did the peasants accept a class system that exploited and oppressed them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histo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n betrayal be forgiven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literature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6120" indent="-190440">
              <a:lnSpc>
                <a:spcPct val="15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at should we wear? (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hemist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174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185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190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200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34920" y="77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ood research question i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968480"/>
            <a:ext cx="878544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requires that the researcher take a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requires deep and extensive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n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to the communal fertile ques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o the disciplinary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est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to students, and possibly also "objectively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actical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coped with in the context of time, material and other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67280" y="5335560"/>
            <a:ext cx="792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863640"/>
            <a:ext cx="88200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fertile ques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oes competition make us better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227664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1700280"/>
            <a:ext cx="1368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43280" y="170028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700000" y="1701720"/>
            <a:ext cx="143820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1701720"/>
            <a:ext cx="180036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4581360"/>
            <a:ext cx="792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465300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2239920"/>
            <a:ext cx="79236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2206800"/>
            <a:ext cx="295272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re be a game without compet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45080" y="2205000"/>
            <a:ext cx="24480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esting improve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4503600"/>
            <a:ext cx="288000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oo much competition lead to che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000" y="4438800"/>
            <a:ext cx="338436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usiness destroyed competitive s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1700280"/>
            <a:ext cx="7164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5265720"/>
            <a:ext cx="2519640" cy="137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competition do to friend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395280" y="2421000"/>
            <a:ext cx="6838560" cy="1225440"/>
            <a:chOff x="395280" y="2421000"/>
            <a:chExt cx="6838560" cy="1225440"/>
          </a:xfrm>
        </p:grpSpPr>
        <p:sp>
          <p:nvSpPr>
            <p:cNvPr id="232" name=""/>
            <p:cNvSpPr/>
            <p:nvPr/>
          </p:nvSpPr>
          <p:spPr>
            <a:xfrm>
              <a:off x="537840" y="299880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2998800"/>
              <a:ext cx="179964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3840" y="299880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5280" y="2852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14560" y="2852640"/>
              <a:ext cx="179964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90920" y="2852640"/>
              <a:ext cx="1800000" cy="647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3020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4948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25840" y="242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242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253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258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08000" y="1906560"/>
          <a:ext cx="8926560" cy="3894120"/>
        </p:xfrm>
        <a:graphic>
          <a:graphicData uri="http://schemas.openxmlformats.org/drawingml/2006/table">
            <a:tbl>
              <a:tblPr/>
              <a:tblGrid>
                <a:gridCol w="2257200"/>
                <a:gridCol w="2075040"/>
                <a:gridCol w="2149560"/>
                <a:gridCol w="2444760"/>
              </a:tblGrid>
              <a:tr h="90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ject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agogic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aim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lcating existing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ing new knowledg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thinking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understa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08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” and “accepted”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s of uncertainty and controversy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 ideas”: disciplinary insights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controvers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11280" y="366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quiry: from School subject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dagogical Discip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217440" y="1978200"/>
          <a:ext cx="8675640" cy="4114800"/>
        </p:xfrm>
        <a:graphic>
          <a:graphicData uri="http://schemas.openxmlformats.org/drawingml/2006/table">
            <a:tbl>
              <a:tblPr/>
              <a:tblGrid>
                <a:gridCol w="1833480"/>
                <a:gridCol w="2233800"/>
                <a:gridCol w="2448000"/>
                <a:gridCol w="2160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 Subject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agogic discipline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s of infor-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 sources (e.g. text-book)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ources privileged by discipline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l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a text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erred perfor-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ation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under-sta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611280" y="366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quiry: from School subject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dagogical Discipline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916280"/>
            <a:ext cx="75438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ictures of teaching, learning, knowledge and educational aims (Yo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xemplification of the community of thinking framework (Ad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4869000"/>
            <a:ext cx="47005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080" y="549360"/>
            <a:ext cx="88200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esearch question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s business destroyed spo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2560" y="1857240"/>
            <a:ext cx="619452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you recommend conducting inqui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1700280"/>
            <a:ext cx="6769080" cy="4635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 of lines of inqui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 based on news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s with athletes and/or f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a team’s financial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athletes’ biographies – “then” and “n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review of sports fil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278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9183200">
            <a:off x="7200720" y="47592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7280" y="5157360"/>
            <a:ext cx="5257800" cy="1368720"/>
            <a:chOff x="1187280" y="5157360"/>
            <a:chExt cx="5257800" cy="1368720"/>
          </a:xfrm>
        </p:grpSpPr>
        <p:sp>
          <p:nvSpPr>
            <p:cNvPr id="290" name=""/>
            <p:cNvSpPr/>
            <p:nvPr/>
          </p:nvSpPr>
          <p:spPr>
            <a:xfrm>
              <a:off x="3922560" y="5157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858920" y="515772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1474920" y="515736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87280" y="5661000"/>
              <a:ext cx="5257800" cy="865080"/>
            </a:xfrm>
            <a:prstGeom prst="rect">
              <a:avLst/>
            </a:prstGeom>
            <a:solidFill>
              <a:srgbClr val="dd61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95280" y="3645000"/>
            <a:ext cx="7129440" cy="1585440"/>
            <a:chOff x="395280" y="3645000"/>
            <a:chExt cx="7129440" cy="1585440"/>
          </a:xfrm>
        </p:grpSpPr>
        <p:sp>
          <p:nvSpPr>
            <p:cNvPr id="295" name=""/>
            <p:cNvSpPr/>
            <p:nvPr/>
          </p:nvSpPr>
          <p:spPr>
            <a:xfrm>
              <a:off x="3851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03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99280" y="364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8200" y="422244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6200" y="4222440"/>
              <a:ext cx="201744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6920" y="4222440"/>
              <a:ext cx="201780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528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4328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4076640"/>
              <a:ext cx="2017800" cy="100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788600">
            <a:off x="7164000" y="537372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306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83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perform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98900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knowledge in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ng example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neralize from an item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 knowledge in different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phenomena by the use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ive arguments to justif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dict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83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understanding perform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859040"/>
            <a:ext cx="85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knowledge into its components (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a stance with regard to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iticize knowledge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knowledge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simulation, model or metaph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a question on the basi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427640" y="4221000"/>
            <a:ext cx="2376360" cy="129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1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ding perform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91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rehensive understanding performance which builds and exhibits understandings for an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5805360"/>
            <a:ext cx="1801800" cy="79236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k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75640" y="3430440"/>
            <a:ext cx="1584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4581360"/>
            <a:ext cx="2160360" cy="100836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36000" y="4941720"/>
            <a:ext cx="1800000" cy="1079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19640" y="5661000"/>
            <a:ext cx="1513080" cy="108108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6920" y="3284640"/>
            <a:ext cx="2017440" cy="1081080"/>
          </a:xfrm>
          <a:prstGeom prst="rect">
            <a:avLst/>
          </a:prstGeom>
          <a:solidFill>
            <a:srgbClr val="dd6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00000" y="3284640"/>
            <a:ext cx="1944720" cy="1079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communal concluding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3344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282920"/>
            <a:ext cx="4392720" cy="84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hy do people mar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601640"/>
            <a:ext cx="4464000" cy="84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hat should we w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130720"/>
            <a:ext cx="7164360" cy="160452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about marriage?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8000" y="2374920"/>
            <a:ext cx="7164720" cy="160452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hion show and information display at shopping 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7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amples of communal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1844640"/>
            <a:ext cx="8064360" cy="15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Why did the peasants accept a class system that exploited and oppressed the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4835520"/>
            <a:ext cx="6392880" cy="801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Does competition make us bette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19280" y="5605560"/>
            <a:ext cx="7380360" cy="84924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 trial with evidence and wit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19280" y="3357720"/>
            <a:ext cx="4392720" cy="849240"/>
          </a:xfrm>
          <a:prstGeom prst="rect">
            <a:avLst/>
          </a:prstGeom>
          <a:solidFill>
            <a:srgbClr val="dd6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19044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345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356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361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371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rot="19183200">
            <a:off x="7200720" y="40428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788600">
            <a:off x="7164000" y="530208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7440" y="1773360"/>
            <a:ext cx="867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the common knowledge basis necessary for understanding the fertile question, for creating questions and for conducting research, vi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39392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3571920"/>
            <a:ext cx="374472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central concept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” the ferti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“mini-inqui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0720" y="3573360"/>
            <a:ext cx="4176720" cy="33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ncepts to the questions that gave rise to them (archeology of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“questions bank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396720" y="834840"/>
            <a:ext cx="6694560" cy="1660680"/>
            <a:chOff x="396720" y="834840"/>
            <a:chExt cx="6694560" cy="1660680"/>
          </a:xfrm>
        </p:grpSpPr>
        <p:sp>
          <p:nvSpPr>
            <p:cNvPr id="388" name=""/>
            <p:cNvSpPr/>
            <p:nvPr/>
          </p:nvSpPr>
          <p:spPr>
            <a:xfrm flipV="1">
              <a:off x="3851280" y="8348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787640" y="835200"/>
              <a:ext cx="1368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402920" y="835200"/>
              <a:ext cx="15130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87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9640" y="141444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1280" y="141300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44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6720" y="1268280"/>
              <a:ext cx="180036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48360" y="1266840"/>
              <a:ext cx="1800000" cy="108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ar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413080" y="258840"/>
            <a:ext cx="2808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87280" y="5155920"/>
            <a:ext cx="5257800" cy="1368720"/>
            <a:chOff x="1187280" y="5155920"/>
            <a:chExt cx="5257800" cy="1368720"/>
          </a:xfrm>
        </p:grpSpPr>
        <p:sp>
          <p:nvSpPr>
            <p:cNvPr id="399" name=""/>
            <p:cNvSpPr/>
            <p:nvPr/>
          </p:nvSpPr>
          <p:spPr>
            <a:xfrm>
              <a:off x="3922560" y="51562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858920" y="5156280"/>
              <a:ext cx="136836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1474920" y="5155920"/>
              <a:ext cx="1512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87280" y="5659560"/>
              <a:ext cx="525780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munal concluding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5280" y="3643200"/>
            <a:ext cx="7129440" cy="1586160"/>
            <a:chOff x="395280" y="3643200"/>
            <a:chExt cx="7129440" cy="1586160"/>
          </a:xfrm>
        </p:grpSpPr>
        <p:sp>
          <p:nvSpPr>
            <p:cNvPr id="404" name=""/>
            <p:cNvSpPr/>
            <p:nvPr/>
          </p:nvSpPr>
          <p:spPr>
            <a:xfrm>
              <a:off x="3851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3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99280" y="36432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820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86200" y="4221000"/>
              <a:ext cx="201744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6920" y="4221000"/>
              <a:ext cx="2017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5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328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64000" y="4075200"/>
              <a:ext cx="2017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clu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96720" y="2490840"/>
            <a:ext cx="6839280" cy="1225440"/>
            <a:chOff x="396720" y="2490840"/>
            <a:chExt cx="6839280" cy="1225440"/>
          </a:xfrm>
        </p:grpSpPr>
        <p:sp>
          <p:nvSpPr>
            <p:cNvPr id="414" name=""/>
            <p:cNvSpPr/>
            <p:nvPr/>
          </p:nvSpPr>
          <p:spPr>
            <a:xfrm>
              <a:off x="539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59280" y="306864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35640" y="306864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16360" y="2922480"/>
              <a:ext cx="180000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92720" y="2922480"/>
              <a:ext cx="1800360" cy="647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qui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3200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5128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27640" y="2490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rot="19183200">
            <a:off x="7200720" y="404280"/>
            <a:ext cx="1834920" cy="1224000"/>
          </a:xfrm>
          <a:prstGeom prst="leftArrow">
            <a:avLst>
              <a:gd name="adj1" fmla="val 50000"/>
              <a:gd name="adj2" fmla="val 374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788600">
            <a:off x="7164000" y="5302080"/>
            <a:ext cx="1835280" cy="122400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26028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atomic pictures”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ition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80" y="19731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290844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is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7735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720" y="471024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educated is to know valuab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7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8000" y="1628640"/>
            <a:ext cx="8926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he learner with information and stimulus to further and deepen his or her learning; providing the teacher with information to improve his or he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139392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573360"/>
            <a:ext cx="3744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c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e stud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solve students’ problems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3573360"/>
            <a:ext cx="4176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 to what can be realistically impro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xamples, but aim for general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920" y="19461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ram Harpaz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yoramha@mandelinstitute.org.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m Lefstein: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aml@netvision.net.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87280" y="4068720"/>
            <a:ext cx="74311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484280"/>
            <a:ext cx="230328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7440" y="1701720"/>
            <a:ext cx="215892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1080" y="4797360"/>
            <a:ext cx="21589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508464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7080" y="566100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7800" y="609300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486900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544500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4797360"/>
            <a:ext cx="2951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080" y="1052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2720" y="88740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ientifi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3080" y="391176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ducation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6360" y="173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“Grand Picture” -- a mimetic ch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637000"/>
            <a:ext cx="1513080" cy="1223640"/>
          </a:xfrm>
          <a:prstGeom prst="rightArrow">
            <a:avLst>
              <a:gd name="adj1" fmla="val 49917"/>
              <a:gd name="adj2" fmla="val 347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6641280" y="1359360"/>
            <a:ext cx="2162160" cy="2843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2843280"/>
              <a:gd name="textAreaBottom" fmla="*/ 2843640 h 284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929" stAng="10800000" swAng="5400000"/>
                <a:lnTo>
                  <a:pt x="16298" y="2231"/>
                </a:lnTo>
                <a:lnTo>
                  <a:pt x="16298" y="0"/>
                </a:lnTo>
                <a:lnTo>
                  <a:pt x="21600" y="6079"/>
                </a:lnTo>
                <a:lnTo>
                  <a:pt x="16298" y="12158"/>
                </a:lnTo>
                <a:lnTo>
                  <a:pt x="16298" y="9927"/>
                </a:lnTo>
                <a:lnTo>
                  <a:pt x="12427" y="9927"/>
                </a:lnTo>
                <a:arcTo wR="4731" hR="2233" stAng="16200000" swAng="-5400000"/>
                <a:lnTo>
                  <a:pt x="769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1280" y="166536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5373720"/>
            <a:ext cx="1800360" cy="863640"/>
          </a:xfrm>
          <a:prstGeom prst="leftArrow">
            <a:avLst>
              <a:gd name="adj1" fmla="val 50000"/>
              <a:gd name="adj2" fmla="val 5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630864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3440" y="4267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sson plan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797360"/>
            <a:ext cx="0" cy="180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6597720"/>
            <a:ext cx="295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97360"/>
            <a:ext cx="2952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4797360"/>
            <a:ext cx="0" cy="503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566100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5300640"/>
            <a:ext cx="216000" cy="289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6381720"/>
            <a:ext cx="0" cy="21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6019920"/>
            <a:ext cx="216000" cy="28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69960" y="5805360"/>
            <a:ext cx="914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u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6560" y="558972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16572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360360" cy="21564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6021360"/>
            <a:ext cx="360360" cy="216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402920" y="6308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4869000"/>
            <a:ext cx="1366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" y="4869000"/>
            <a:ext cx="13669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9160" y="42926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udent’s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08360" y="3681720"/>
            <a:ext cx="1081080" cy="863640"/>
          </a:xfrm>
          <a:prstGeom prst="rightArrow">
            <a:avLst>
              <a:gd name="adj1" fmla="val 50000"/>
              <a:gd name="adj2" fmla="val 31294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1286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ment +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06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sk involv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go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lo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context)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per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inking operations with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038320"/>
            <a:ext cx="821232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proc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and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c conditions for 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c conditions for effective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938240"/>
            <a:ext cx="7543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i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ve ongoing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v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and will vs. other people or l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remental learners vs. entity lear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5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ternative “atomic pictur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925640"/>
            <a:ext cx="849600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is being involved an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is providing the conditions for effe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is a structure or a “story” tha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educated is knowing how to relate to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6360" y="689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1:59:48Z</dcterms:created>
  <dc:creator>yoramha</dc:creator>
  <dc:description/>
  <dc:language>en-US</dc:language>
  <cp:lastModifiedBy>DECS Online Services</cp:lastModifiedBy>
  <cp:lastPrinted>2004-06-25T23:04:48Z</cp:lastPrinted>
  <dcterms:modified xsi:type="dcterms:W3CDTF">2006-11-13T04:04:52Z</dcterms:modified>
  <cp:revision>144</cp:revision>
  <dc:subject>Yoram Harpaz / Adam Lefstein</dc:subject>
  <dc:title>Teaching and learning in a community of thinking - challenges and dilemmas</dc:title>
</cp:coreProperties>
</file>